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12E479-67D0-4407-83BA-A29699A78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0DD313-BCCE-445E-B7C5-7EEB858D3D5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650-B4A3-4A17-BA88-B04AC345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77AC-3C3D-466F-A43E-F2511C1C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8F8C-8B49-4A1B-B084-64231C8B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8F94-6BC5-4F93-AD0B-5B7A2DFB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8D87-486C-4A31-8348-8C5D46A8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5A54-4978-47D8-AD23-79CBC30A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56DA-BC4C-47AA-8D36-DC3FB2CD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EEE4-6597-4E66-A593-F80C8BF2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CE90-DC8F-4622-940A-8A0B6EB1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FAA7-0B50-44C4-A49C-52600850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CB95-25D8-4505-AF12-F2561128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247-547A-43EA-AB2C-88C27E73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10E0-30D4-4A39-9C51-E6BE2462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3D26-25E3-4EA7-B283-9944F560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DCDF-1D3A-4A30-BE85-6794432B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AA8E-3F84-4C6A-8AFE-833EB16B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B6EA-DFF2-424E-821B-2C78F082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D04-E129-4442-BDAA-5597CC8A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5AB-781C-4311-B40C-6BF26727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6D0-F18E-44B5-9F16-FBD5ED26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E71-7C4E-43A0-BAFD-EF4FE541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F588-5B7F-4FC8-998C-A6815C67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C92A-6CE1-498D-94D5-D8BE8468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ED31-656B-43AD-975E-27A6F0F0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4800" spc="-1" strike="noStrike" cap="all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D6250E-B4F5-4C39-9D64-1CAE8B22D5A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CA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CA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CA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CA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62F160-E740-4D81-BBD9-B258BE2781D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 cap="all">
                <a:solidFill>
                  <a:srgbClr val="000000"/>
                </a:solidFill>
                <a:latin typeface="Lucida Sans"/>
              </a:rPr>
              <a:t>Spreadsheets Continued…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22520" y="502920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A: Shreya Ra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ail: srawal@ucalgary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mponents of If-Else statement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gic Cond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ue State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alse State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yntax of If-Else statement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 IF(&lt;logic statement&gt;, &lt;true statement&gt;,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&lt;false statement&gt;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ampl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IF(A2&lt;50, “Fail”, “Pass”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IF(A1&lt;50, “Fail, IF(A1&gt;80, “A”, “B”)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Note: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statement can correspond to a number, or a string of characters by using double quotation marks (e.g. "yes", "true", "evaluation if false", etc.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ampl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 IF(A1&lt;50, “Fail”, “Pass”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88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4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Fai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5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F (A1&lt;50, “Fail”, IF(A1&gt;80, “A Grade”, B Grade”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88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A Grad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4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Fai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5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B Grad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More Examples: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F (G2 = “Cat”, “Kitten”, (IF G2 = “Dog”,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Puppy”, “Small Mammal”)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2 = Ca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Kitte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2 = Dog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upp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2 = Ba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Small Mamm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2 = Mous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Small Mamm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ivot Tabl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ivot tables provide a mechanism to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ummarize dat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kes it easier to analyz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kes it easier to present dat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61976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ivot Tab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391160" cy="36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Killer Example: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F (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A1 = “Bed”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IF (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A2 = “Sofa”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“You have sofa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bed”, IF (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A3 = “Chair”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“You chair and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d”, “You have bed but not chair or sofa”)),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you do not have anything”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1 = Bed, A2 = Sofa, A3 = Tab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You have sofa and b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1 = Bed, A2 = Table, A3 = Chai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You have chair and b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ustom Claculation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custom calculation use the data associated with cells in a single worksheet, or across multiple workshee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custom calculation is specified in the function toolba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(A1 + A2 – E3 * B12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(P * N * R)/10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ere P, N, R can be cell values representing  Principal Amount, Number of Years and Rate of Interest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ustom Calculations… (conti)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refer cell or data in same workshee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referred as column and ro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g: A12, E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refer cell data from different workshee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referred as sheet name, exclamation point (‘!’), and cell reference (F12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g: Sheet2!F5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eps to perform a custom calculation: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42400" indent="-274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lect the cell in which you would like the evaluation of the custom calculation to be displayed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42400" indent="-274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 the Function toolbar, enter the custom calculation by starting with the equals symbol '='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3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42400" indent="-274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fter entering the custom calculation, press the 'enter' key to evaluate the function. The result will appear in the cell that was originally selected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Note: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custom calculation can also include functions which are bundled with Excel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(SUM(A5:A10) * 50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(AVERAGE(A22:A56) / COUNT(A22:A56)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Understanding If-Then statement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If-Then statement answers the question "is this true or false?" and then performs a corresponding actio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</a:t>
            </a:r>
            <a:r>
              <a:rPr b="0" lang="en-US" sz="3200" spc="-1" strike="noStrike">
                <a:solidFill>
                  <a:srgbClr val="ff0000"/>
                </a:solidFill>
                <a:latin typeface="Book Antiqua"/>
              </a:rPr>
              <a:t>it snow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not go to schoo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go to schoo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</a:t>
            </a:r>
            <a:r>
              <a:rPr b="0" lang="en-US" sz="3200" spc="-1" strike="noStrike">
                <a:solidFill>
                  <a:srgbClr val="ff0000"/>
                </a:solidFill>
                <a:latin typeface="Book Antiqua"/>
              </a:rPr>
              <a:t>it snow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go to gy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lse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</a:t>
            </a:r>
            <a:r>
              <a:rPr b="0" lang="en-US" sz="3200" spc="-1" strike="noStrike">
                <a:solidFill>
                  <a:srgbClr val="ff0000"/>
                </a:solidFill>
                <a:latin typeface="Book Antiqua"/>
              </a:rPr>
              <a:t>temperature &lt; -25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stay at hom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go to schoo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Note: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 nested If-Then statements, evaluations of inner-most statements occur first, and their evaluations are propagated to the outer-most statement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.thmx</Template>
  <TotalTime>104</TotalTime>
  <Application>LibreOffice/7.4.7.2$Linux_X86_64 LibreOffice_project/40$Build-2</Application>
  <AppVersion>15.0000</AppVersion>
  <Words>760</Words>
  <Paragraphs>99</Paragraphs>
  <Company>University of Calgar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9:26:32Z</dcterms:created>
  <dc:creator>Shreya Rawal</dc:creator>
  <dc:description/>
  <dc:language>en-US</dc:language>
  <cp:lastModifiedBy>Shreya Rawal</cp:lastModifiedBy>
  <dcterms:modified xsi:type="dcterms:W3CDTF">2009-01-21T19:36:04Z</dcterms:modified>
  <cp:revision>8</cp:revision>
  <dc:subject/>
  <dc:title>Spreadsheets Continued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9</vt:r8>
  </property>
</Properties>
</file>